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7CC-9B3D-4A37-B91D-A43B7C0E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41C3-DB40-4F95-AA58-88C02075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4F04-FE2B-465C-A87D-F99FE9ED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EB4A-127B-4E7C-A448-F1178DE5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C4B7-B253-424B-B112-7E21061C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EEBA-51F1-46EB-9D82-CEBDC2B3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A3BC-4F59-460C-BA24-92F26B92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408A-DA84-425E-8E9B-5F6A235E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1E94-576C-4684-9BEF-C3C10675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58EB-010D-4DAA-8E42-F8AB1EE4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622C-285B-49D5-B243-B6A8215A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0BED-0F66-4EF6-AAA0-F28789A7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DD13-1D79-458D-8763-66C8D277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2FCA-C1C8-4007-A8DD-1DA04ECC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5D31-0817-43ED-95FC-BB7DAF1A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E4AE-ACF0-4144-836A-35329C9E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2A5A-67DA-4F14-A0B2-6B2F7C1D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98C-4D9A-4C98-8C80-22DD215E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D03-00C4-454B-A417-E12EF8D6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346D-6EB0-4BB5-ADE7-8CE24BC6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5653-65C5-4697-B8E9-3505A46C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D6B-5849-45A1-A3A5-8CB4F577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CDC-79AE-4285-9A59-6DF392B9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CC72-3096-4928-A702-80B8782D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14C6-AD36-4549-92DF-19207393FB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678B-F38D-45C8-837D-430E516949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85;&#1080;&#1085;&#1075;&#1088;&#1072;&#1076;" TargetMode="External"/><Relationship Id="rId2" Type="http://schemas.openxmlformats.org/officeDocument/2006/relationships/hyperlink" Target="http://ru.wikipedia.org/wiki/&#1057;&#1072;&#1085;&#1082;&#1090;-&#1055;&#1077;&#1090;&#1077;&#1088;&#1073;&#1091;&#1088;&#1075;" TargetMode="External"/><Relationship Id="rId3" Type="http://schemas.openxmlformats.org/officeDocument/2006/relationships/hyperlink" Target="http://ru.wikipedia.org/wiki/1_&#1084;&#1072;&#1103;" TargetMode="External"/><Relationship Id="rId4" Type="http://schemas.openxmlformats.org/officeDocument/2006/relationships/hyperlink" Target="http://ru.wikipedia.org/wiki/1945" TargetMode="External"/><Relationship Id="rId5" Type="http://schemas.openxmlformats.org/officeDocument/2006/relationships/hyperlink" Target="http://ru.wikipedia.org/wiki/&#1054;&#1076;&#1077;&#1089;&#1089;&#1072;" TargetMode="External"/><Relationship Id="rId6" Type="http://schemas.openxmlformats.org/officeDocument/2006/relationships/hyperlink" Target="http://ru.wikipedia.org/wiki/1_&#1084;&#1072;&#1103;" TargetMode="External"/><Relationship Id="rId7" Type="http://schemas.openxmlformats.org/officeDocument/2006/relationships/hyperlink" Target="http://ru.wikipedia.org/wiki/1945" TargetMode="External"/><Relationship Id="rId8" Type="http://schemas.openxmlformats.org/officeDocument/2006/relationships/hyperlink" Target="http://ru.wikipedia.org/wiki/&#1057;&#1077;&#1074;&#1072;&#1089;&#1090;&#1086;&#1087;&#1086;&#1083;&#1100;" TargetMode="External"/><Relationship Id="rId9" Type="http://schemas.openxmlformats.org/officeDocument/2006/relationships/hyperlink" Target="http://ru.wikipedia.org/wiki/1_&#1084;&#1072;&#1103;" TargetMode="External"/><Relationship Id="rId10" Type="http://schemas.openxmlformats.org/officeDocument/2006/relationships/hyperlink" Target="http://ru.wikipedia.org/wiki/1945" TargetMode="External"/><Relationship Id="rId11" Type="http://schemas.openxmlformats.org/officeDocument/2006/relationships/hyperlink" Target="http://ru.wikipedia.org/wiki/&#1057;&#1090;&#1072;&#1083;&#1080;&#1085;&#1075;&#1088;&#1072;&#1076;" TargetMode="External"/><Relationship Id="rId12" Type="http://schemas.openxmlformats.org/officeDocument/2006/relationships/hyperlink" Target="http://ru.wikipedia.org/wiki/&#1042;&#1086;&#1083;&#1075;&#1086;&#1075;&#1088;&#1072;&#1076;" TargetMode="External"/><Relationship Id="rId13" Type="http://schemas.openxmlformats.org/officeDocument/2006/relationships/hyperlink" Target="http://ru.wikipedia.org/wiki/1_&#1084;&#1072;&#1103;" TargetMode="External"/><Relationship Id="rId14" Type="http://schemas.openxmlformats.org/officeDocument/2006/relationships/hyperlink" Target="http://ru.wikipedia.org/wiki/1945" TargetMode="External"/><Relationship Id="rId15" Type="http://schemas.openxmlformats.org/officeDocument/2006/relationships/hyperlink" Target="http://ru.wikipedia.org/wiki/&#1041;&#1088;&#1077;&#1089;&#1090;&#1089;&#1082;&#1072;&#1103;_&#1082;&#1088;&#1077;&#1087;&#1086;&#1089;&#1090;&#1100;" TargetMode="External"/><Relationship Id="rId16" Type="http://schemas.openxmlformats.org/officeDocument/2006/relationships/hyperlink" Target="http://ru.wikipedia.org/wiki/8_&#1084;&#1072;&#1103;" TargetMode="External"/><Relationship Id="rId17" Type="http://schemas.openxmlformats.org/officeDocument/2006/relationships/hyperlink" Target="http://ru.wikipedia.org/wiki/1965" TargetMode="External"/><Relationship Id="rId18" Type="http://schemas.openxmlformats.org/officeDocument/2006/relationships/hyperlink" Target="http://ru.wikipedia.org/wiki/&#1050;&#1080;&#1077;&#1074;" TargetMode="External"/><Relationship Id="rId19" Type="http://schemas.openxmlformats.org/officeDocument/2006/relationships/hyperlink" Target="http://ru.wikipedia.org/wiki/8_&#1084;&#1072;&#1103;" TargetMode="External"/><Relationship Id="rId20" Type="http://schemas.openxmlformats.org/officeDocument/2006/relationships/hyperlink" Target="http://ru.wikipedia.org/wiki/1965" TargetMode="External"/><Relationship Id="rId21" Type="http://schemas.openxmlformats.org/officeDocument/2006/relationships/hyperlink" Target="http://ru.wikipedia.org/wiki/&#1052;&#1086;&#1089;&#1082;&#1074;&#1072;" TargetMode="External"/><Relationship Id="rId22" Type="http://schemas.openxmlformats.org/officeDocument/2006/relationships/hyperlink" Target="http://ru.wikipedia.org/wiki/8_&#1084;&#1072;&#1103;" TargetMode="External"/><Relationship Id="rId23" Type="http://schemas.openxmlformats.org/officeDocument/2006/relationships/hyperlink" Target="http://ru.wikipedia.org/wiki/1965" TargetMode="External"/><Relationship Id="rId24" Type="http://schemas.openxmlformats.org/officeDocument/2006/relationships/hyperlink" Target="http://ru.wikipedia.org/wiki/&#1050;&#1077;&#1088;&#1095;&#1100;" TargetMode="External"/><Relationship Id="rId25" Type="http://schemas.openxmlformats.org/officeDocument/2006/relationships/hyperlink" Target="http://ru.wikipedia.org/wiki/14_&#1089;&#1077;&#1085;&#1090;&#1103;&#1073;&#1088;&#1103;" TargetMode="External"/><Relationship Id="rId26" Type="http://schemas.openxmlformats.org/officeDocument/2006/relationships/hyperlink" Target="http://ru.wikipedia.org/wiki/1973" TargetMode="External"/><Relationship Id="rId27" Type="http://schemas.openxmlformats.org/officeDocument/2006/relationships/hyperlink" Target="http://ru.wikipedia.org/wiki/&#1053;&#1086;&#1074;&#1086;&#1088;&#1086;&#1089;&#1089;&#1080;&#1081;&#1089;&#1082;" TargetMode="External"/><Relationship Id="rId28" Type="http://schemas.openxmlformats.org/officeDocument/2006/relationships/hyperlink" Target="http://ru.wikipedia.org/wiki/14_&#1089;&#1077;&#1085;&#1090;&#1103;&#1073;&#1088;&#1103;" TargetMode="External"/><Relationship Id="rId29" Type="http://schemas.openxmlformats.org/officeDocument/2006/relationships/hyperlink" Target="http://ru.wikipedia.org/wiki/1973" TargetMode="External"/><Relationship Id="rId30" Type="http://schemas.openxmlformats.org/officeDocument/2006/relationships/hyperlink" Target="http://ru.wikipedia.org/wiki/&#1052;&#1080;&#1085;&#1089;&#1082;" TargetMode="External"/><Relationship Id="rId31" Type="http://schemas.openxmlformats.org/officeDocument/2006/relationships/hyperlink" Target="http://ru.wikipedia.org/wiki/26_&#1080;&#1102;&#1085;&#1103;" TargetMode="External"/><Relationship Id="rId32" Type="http://schemas.openxmlformats.org/officeDocument/2006/relationships/hyperlink" Target="http://ru.wikipedia.org/wiki/1974" TargetMode="External"/><Relationship Id="rId33" Type="http://schemas.openxmlformats.org/officeDocument/2006/relationships/hyperlink" Target="http://ru.wikipedia.org/wiki/&#1058;&#1091;&#1083;&#1072;" TargetMode="External"/><Relationship Id="rId34" Type="http://schemas.openxmlformats.org/officeDocument/2006/relationships/hyperlink" Target="http://ru.wikipedia.org/wiki/7_&#1076;&#1077;&#1082;&#1072;&#1073;&#1088;&#1103;" TargetMode="External"/><Relationship Id="rId35" Type="http://schemas.openxmlformats.org/officeDocument/2006/relationships/hyperlink" Target="http://ru.wikipedia.org/wiki/1976" TargetMode="External"/><Relationship Id="rId36" Type="http://schemas.openxmlformats.org/officeDocument/2006/relationships/hyperlink" Target="http://ru.wikipedia.org/wiki/&#1052;&#1091;&#1088;&#1084;&#1072;&#1085;&#1089;&#1082;" TargetMode="External"/><Relationship Id="rId37" Type="http://schemas.openxmlformats.org/officeDocument/2006/relationships/hyperlink" Target="http://ru.wikipedia.org/wiki/6_&#1084;&#1072;&#1103;" TargetMode="External"/><Relationship Id="rId38" Type="http://schemas.openxmlformats.org/officeDocument/2006/relationships/hyperlink" Target="http://ru.wikipedia.org/wiki/1985" TargetMode="External"/><Relationship Id="rId39" Type="http://schemas.openxmlformats.org/officeDocument/2006/relationships/hyperlink" Target="http://ru.wikipedia.org/wiki/&#1057;&#1084;&#1086;&#1083;&#1077;&#1085;&#1089;&#1082;" TargetMode="External"/><Relationship Id="rId40" Type="http://schemas.openxmlformats.org/officeDocument/2006/relationships/hyperlink" Target="http://ru.wikipedia.org/wiki/6_&#1084;&#1072;&#1103;" TargetMode="External"/><Relationship Id="rId41" Type="http://schemas.openxmlformats.org/officeDocument/2006/relationships/hyperlink" Target="http://ru.wikipedia.org/wiki/1985" TargetMode="External"/><Relationship Id="rId4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18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Великая Отечественная Война глазами современников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03280" y="5589360"/>
            <a:ext cx="6440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Проект выполнен учениками 10 класс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2010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Картинка 227 из 98348"/>
          <p:cNvPicPr/>
          <p:nvPr/>
        </p:nvPicPr>
        <p:blipFill>
          <a:blip r:embed="rId1"/>
          <a:stretch/>
        </p:blipFill>
        <p:spPr>
          <a:xfrm>
            <a:off x="2050920" y="2349360"/>
            <a:ext cx="5256360" cy="3240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4 период Войны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Западный фронт Германии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 Советское наступление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Стратегические бомбардировки Герман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Тихоокеанский театр военных действий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5 период Войны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Окончание</a:t>
            </a:r>
            <a:r>
              <a:rPr b="0" i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войны с Япони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Итоги Войн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35344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Вторая мировая война оказала огромное влияние на судьбы человечества. В ней участвовало 62 государства (80 % населения земного шара). Военные действия велись на территории 40 государств. В вооружённые силы было мобилизовано 110 млн. человек. Общие людские потери достигли 50-55 млн. чел., из них убито на фронтах 27 млн. чел. Наибольшие людские потери понесли СССР, Китай, Германия, Япония и Польш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Итоги Войны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1.Советский народ отстоял свою свободу и независимость, суверенное государство в борьбе с самыми могучими вооруженными   силами иностранных держав. Главную тяжесть войны вынес великий русский народ, сплотивший многие народы Советского Союза   в едином порыве.                                                                        2. Победа Советского Союза внесла решающий вклад в спасение европейской и мировой цивилизации от фашизма. Народы Европы   получили  возможность самостоятельно развиваться на демократической основе. Страны Восточной Европы избрали путь социалистического строительства, влившись в число стран социалистического содружества; другие развивались на основе буржуазной демократии.                                                                                                              3. Значительно укрепился авторитет  Советского государства.   Победа в войне показала  способность страны  концентрировать   политические, экономические, духовные, национальные  и военные  силы в интересах  разгрома  могущественного  агрессора. Творческий  потенциал народа показал свои неисчерпаемые возмож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Города – герои Великой Отечественной войны: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Ленинград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(ныне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Санкт -Петербург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) 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1 ма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194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Одесс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 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1 ма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7"/>
              </a:rPr>
              <a:t>194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8"/>
              </a:rPr>
              <a:t>Севастополь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 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9"/>
              </a:rPr>
              <a:t>1 ма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0"/>
              </a:rPr>
              <a:t>194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1"/>
              </a:rPr>
              <a:t>Сталинград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(ныне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2"/>
              </a:rPr>
              <a:t>Волгоград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) 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3"/>
              </a:rPr>
              <a:t>1 ма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4"/>
              </a:rPr>
              <a:t>194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5"/>
              </a:rPr>
              <a:t>Брестская крепость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(Крепость-Герой) 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6"/>
              </a:rPr>
              <a:t>8 ма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7"/>
              </a:rPr>
              <a:t>196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8"/>
              </a:rPr>
              <a:t>Кие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 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9"/>
              </a:rPr>
              <a:t>8 ма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0"/>
              </a:rPr>
              <a:t>196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1"/>
              </a:rPr>
              <a:t>Москв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2"/>
              </a:rPr>
              <a:t>8 ма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3"/>
              </a:rPr>
              <a:t>196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4"/>
              </a:rPr>
              <a:t>Керчь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5"/>
              </a:rPr>
              <a:t>14 сентябр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6"/>
              </a:rPr>
              <a:t>197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7"/>
              </a:rPr>
              <a:t>Новороссийск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8"/>
              </a:rPr>
              <a:t>14 сентябр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9"/>
              </a:rPr>
              <a:t>197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0"/>
              </a:rPr>
              <a:t>Минск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 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1"/>
              </a:rPr>
              <a:t>26 июн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2"/>
              </a:rPr>
              <a:t>197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3"/>
              </a:rPr>
              <a:t>Тул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4"/>
              </a:rPr>
              <a:t>7 декабр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5"/>
              </a:rPr>
              <a:t>1976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6"/>
              </a:rPr>
              <a:t>Мурманск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7"/>
              </a:rPr>
              <a:t>6 ма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8"/>
              </a:rPr>
              <a:t>198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9"/>
              </a:rPr>
              <a:t>Смоленск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— с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40"/>
              </a:rPr>
              <a:t>6 ма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41"/>
              </a:rPr>
              <a:t>198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07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Каково отношение молодого поколения к ВОВ и её Участникам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«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День Победы – мой самый любимый праздник! Я чту память о погибших в тяжелых сражения и очень уважаю ветеранов, подарившим нам жизнь!» Иванова А. 17 л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« Очень жаль, что ветеранов с каждым годом становится все меньше. Хочется, чтобы они были здоровы  и счастливы!» Исаева К. 15 л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«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Война коснулась каждой семьи.. это ужасно, не дай Бог пережить это еще раз!» Тарасов М.16 л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Спасибо за победу, Дорогие Ветераны!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6985080" cy="4535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Что такое Война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Конфликт между политическими образованиями ( государствами, племенами, политическими группировками и т.д.), происходящий в форме боевых действий между их вооруженными силам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Каковы причины возникновения войн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Стремление политических сил использовать вооруженную борьбу для достижения различных внешне- и внутри- политических целе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Национальная, религиозная, социальная, экономическая вражд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Великая Отечественная Война – это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вооруженный конфликт двух мировых военно – политических коалиций, ставший крупнейшей войной в истории человече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Великая Отечественная Война началась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22 июня 1941 год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Закончилась  Великая     Отечественная  Войн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2 сентября 1945 год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Германия и ее союзники 22 июня 1941 года обрушили на Советскую страну военный удар невиданной силы…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3573000"/>
            <a:ext cx="82296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190 дивизий, свыше 4 000 танков, более 47 000 орудий и миномётов, около 5 000 самолётов, более 200 корабл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1 период Войн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Вторжение в Польшу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 Битва за Атлантику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Советско-финская война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 Европейский блицкриг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 Присоединение Прибалтики, Бессарабии и Северной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Буковины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8" action="ppaction://hlinksldjump"/>
              </a:rPr>
              <a:t> к СССР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9" action="ppaction://hlinksldjump"/>
              </a:rPr>
              <a:t> Битва за Британию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10" action="ppaction://hlinksldjump"/>
              </a:rPr>
              <a:t> Сражения в Африке, Средиземноморье и на Балканах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11" action="ppaction://hlinksldjump"/>
              </a:rPr>
              <a:t> Расширение блока фашистских государств. Сражения на Балканах и на Ближнем Востоке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12" action="ppaction://hlinksldjump"/>
              </a:rPr>
              <a:t> Аз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2 период Войны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 Вторжение в СССР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 Наступление японцев на Тихом океане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 Второй этап битвы за Атлантику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 Средиземноморско-африканские кампании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 Создание Антигитлеровской коалиции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 Восточный фронт: второе немецкое крупномасштабное наступление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 Тихоокеанский фронт: Перело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3 период Войны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Перелом на Восточном фронте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 Англо-американский десант в Африке и Италии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 Стратегические бомбардировки Германии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Гуадалканал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. Аз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21:44:51Z</dcterms:created>
  <dc:creator>Admin</dc:creator>
  <dc:description/>
  <dc:language>en-US</dc:language>
  <cp:lastModifiedBy>Admin</cp:lastModifiedBy>
  <dcterms:modified xsi:type="dcterms:W3CDTF">2010-05-20T00:00:26Z</dcterms:modified>
  <cp:revision>2</cp:revision>
  <dc:subject/>
  <dc:title>Великая Отечественная Война глазами современников</dc:title>
</cp:coreProperties>
</file>